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305-07FE-4027-8D07-BC7E98753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6106-D3D8-47AA-B353-994CDBB36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62CD-87BC-4438-98DE-68B2A9143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B2E-3A8C-4375-9334-266C97384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C78-7524-4621-B7E3-CB209EC63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2F8-181E-47A1-A55B-76E24168E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384C-F5CA-4720-A5EF-FC2BFDE04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579-3B5D-47EE-91FF-E54502A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E71-6C83-4637-ABD4-32B16358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5CE-C5EF-43EA-9EB0-DC9636AD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105-5CBB-49DD-BD84-2CE19C00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623-12F6-4487-BDF2-18C75FF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E5C-9096-4E11-AEAA-88023E0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545-0926-4161-98BD-5771BF85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5C0-1048-4F07-A18F-51734AA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6EA-4F1F-4AB9-814F-A05D947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E13-9477-4E14-A5ED-459979E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AE3-3C1E-4F7E-B819-43AD59C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22C-DE6B-41DB-A5E1-27B1DB4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5B9F-AD41-4C11-A5CB-8306B033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357200" y="857160"/>
            <a:ext cx="65008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the correct flashcard around the room to express your opinions of the activities you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 ejemplo: for &lt;&lt;practicar la gimnasia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uld you go to...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enc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da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leisure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the forms of the verb “to 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how to describe something that is going to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195640" y="1268280"/>
            <a:ext cx="475272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, vas, va es 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y, vas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mos, vais, van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mos, vais,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, vais, van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, vais,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h señor vamos, vais,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95280" y="333360"/>
            <a:ext cx="1655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627280" y="333360"/>
            <a:ext cx="19447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333360"/>
            <a:ext cx="309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 / she / it is going / you (polite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0920" y="2133720"/>
            <a:ext cx="165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2997360"/>
            <a:ext cx="165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ural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164360" y="2276640"/>
            <a:ext cx="16556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going / you (plural, polite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403280" y="765000"/>
            <a:ext cx="865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3348000" y="76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4211640" y="1052640"/>
            <a:ext cx="100800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1908000" y="249228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V="1">
            <a:off x="1908000" y="2997000"/>
            <a:ext cx="1656000" cy="50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 flipV="1">
            <a:off x="4932360" y="2997000"/>
            <a:ext cx="2232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39640" y="1197000"/>
            <a:ext cx="784872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 I am going to listen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am going =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listen to music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.g. vo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jugar al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067280" y="2492280"/>
            <a:ext cx="38178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cuchar 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1844640"/>
            <a:ext cx="287964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gic ingre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404640"/>
            <a:ext cx="83534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 a jugar al balonc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am going to play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oy a practicar el ciclismo porque 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am going to go cycling because it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fin de semana que viene, voy a ir a Barnsta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xt weekend I am going to go to Barnsta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urante el mi-trimestre voy a jugar al balonmano porque es divertido y social, y me gust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half-term I am going to play handball because it is fun and sociable, and I really lik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24:01Z</dcterms:created>
  <dc:creator>Owner1</dc:creator>
  <dc:description/>
  <dc:language>en-US</dc:language>
  <cp:lastModifiedBy>Chris</cp:lastModifiedBy>
  <dcterms:modified xsi:type="dcterms:W3CDTF">2009-01-28T10:04:25Z</dcterms:modified>
  <cp:revision>6</cp:revision>
  <dc:subject/>
  <dc:title>Slide 1</dc:title>
</cp:coreProperties>
</file>